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CEA-37F5-4F9C-B3B3-60ED41B3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F04-034F-40EA-8BF3-B5CEFF7D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9B7-69F2-4A64-9D84-B62B68C4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C10-F4F6-4FD9-B634-053E1B33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EB4-776E-4F37-A97B-50E3F250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6C2-3737-4CCC-89B0-7345BA3E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1DD-6F2F-4C9D-8D10-467F0335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08E-BDF9-427F-8952-8FECE138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0FC-60D9-412C-ACED-2D91957D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736-0813-4EF4-9D11-A0380143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4B4-7873-4607-876A-5135502E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EC8-DC4C-4CFE-A21B-F74C09F0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E499-D2FB-4B3B-8463-E23E84C6B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809880"/>
            <a:ext cx="297180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Virginia Tomatoes on Blue Silk Scarf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Wright-Frierson, Virginia, American, born 19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water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7.5” x 10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3733920"/>
            <a:ext cx="2209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Abstra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Frank London. American, 1876-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27” x 2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657600" cy="1487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124080" y="914400"/>
            <a:ext cx="200520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04920" y="1082520"/>
            <a:ext cx="2361960" cy="164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56360" y="33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373392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Peeled Orange and P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Hobson Pittman, American, 1900-19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pas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8.75” x 22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c. 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6360" y="571500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Four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4190760"/>
            <a:ext cx="82296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 descriptive language, o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:  three dimensional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 shape/form, simplification/abstraction, light and shadow,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052640"/>
            <a:ext cx="3429000" cy="238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2235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90960" cy="4033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9600" y="4572000"/>
            <a:ext cx="892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most widely popular forms of art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ll-li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in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ill-life painting, the artist arranges objects such as fru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bles, containers, cloths in an interest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a painting of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n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181480" cy="3610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5400" y="4307040"/>
            <a:ext cx="790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still-life paintings, the artist chooses to mak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appear ve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bjects do you recognize in this paintin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772080" cy="4724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89280" y="476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560" y="5257800"/>
            <a:ext cx="82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ther paintings, the artist may choose to paint th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till-life in ways that make it difficult for the view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738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65240" y="304920"/>
            <a:ext cx="365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few minute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 this pa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bjects can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se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not recogn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thing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 to be brok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be sure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are located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3067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1200" y="3773520"/>
            <a:ext cx="839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ainting is a good example of how artists use shap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We know that plates are usually roun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plates in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painted as oval shap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ook that way because the artist is showing us they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on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he is not looking straight down at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239240" cy="2943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840" y="3809880"/>
            <a:ext cx="80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tist is showing the viewer that the fruit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he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just fl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painting a shadow on the right s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ome fruit and by painting a shadow underneath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of s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383220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64160" y="304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560" y="5105520"/>
            <a:ext cx="73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look carefully at the goblet in the center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ing you will see the artist has used light and 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 to look like shadow here to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2:43:19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